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png" ContentType="image/png"/>
  <Override PartName="/ppt/media/image11.wmf" ContentType="image/x-wmf"/>
  <Override PartName="/ppt/media/image12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  <p:sldId id="264" r:id="rId34"/>
    <p:sldId id="265" r:id="rId35"/>
    <p:sldId id="266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slide" Target="slides/slide9.xml"/><Relationship Id="rId35" Type="http://schemas.openxmlformats.org/officeDocument/2006/relationships/slide" Target="slides/slide10.xml"/><Relationship Id="rId36" Type="http://schemas.openxmlformats.org/officeDocument/2006/relationships/slide" Target="slides/slide11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FC621F-E01B-4413-BDD9-2190FAEA3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73A479-5D7C-49E2-9C6B-060D73303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2E8D23-CB28-4BC8-9530-BD4712ACF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3858EC-A499-4D15-8F2A-C3BD0F467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1B091C-8C1A-4B63-9368-C85950ADE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C9B6F1-7156-4546-91D9-CE1CA330F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ED399C-6619-46BC-99FF-7E639ED1A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A2E934-873E-48D6-AE05-9A30CE351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F8D4CF-36DB-4035-80C7-FECF184A3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697722-CB63-4CDB-AF42-537AF9926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AA3076-2A41-4E4D-BD42-416E32120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91446E-CC34-4496-A6E5-E913C5847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8357DC-A084-468E-B2F4-0F82AB942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32233D-BC63-487A-911C-55BB3A59E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5A775A-417E-4832-BEE5-8B8DF5171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D62C57-63BB-4669-A804-0EADB4538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3BD855-419B-45BD-B355-CE5BC5A72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DBA072-DB56-46FD-9E1C-D8097C264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1A240B-91C8-4C3F-B202-58A7363FA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3C74C5-D5BB-4825-99E5-C7AC684DF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B2302E-7D3E-4BCF-88ED-D91BDDEDF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C75054-4466-4704-926C-05491E37F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05CC32-8072-498F-8E1A-FB92F69E7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22E111-8A45-4706-A2ED-7324C6F14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32F595-8A43-40B8-B821-C9318EAB4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F1EB47-92EF-4D01-B860-CE7FD6DB8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1AD851-20AA-49A1-9788-C1606BD20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C7F153-1373-4816-9DCA-618D06F10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479BB3-D980-41DA-B6B4-EE7271576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EAC486-6D3A-4532-8268-8A97BA119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BFC5-CD18-442A-AE0A-69734D813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409623-5432-44B9-9B8E-45BD84948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D72406-F2C8-44B6-8359-6929B7AE5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339B45-420B-42C3-A43F-4641AB536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9D926B-2C25-48B2-B813-600C73D1B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5C81C6-860C-4981-A790-0C6DE532A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1A9D7D-377C-42B7-845B-5F6A74669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CF54DB-2FDA-46E7-A43C-BFB81C86B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B93A3B-5331-4ECB-95F7-6452F7C70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9A1969-1439-4174-ABB5-D3FBA3A24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FF8F63-D23B-42B2-AACC-4E9F31FDE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784F-D6E7-4CC7-88D2-1F431BFC5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437247-B470-4392-8915-5A6F4F9B6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469DA0-A967-46A1-A716-6BB3686E4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A36F15-28A0-4B81-A6B0-5C6211DA3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43127B-ADAD-4BFD-8555-6EA7E271B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DD49DD-5D00-45BC-9D4F-85F535704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A3A7F4-698B-4EE1-A506-BCC0725FD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B228FB-FE3C-42E3-AC8E-66B246E58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0DCA31-FE7F-47BA-B777-6D118B896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429215-CD35-42BA-9F8A-794777B2F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B96126-02CA-448C-AE5C-B930745C4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FC6A-8061-42DC-AEE9-BA35BEF34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C1E3C5-D525-40FA-B581-998644A52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FBE65D-586E-4921-A449-70CD6D5CC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BA703B-6FE5-4F09-866D-DCCF57355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2F6AB8-C128-4958-96DB-35883A16F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799812-8090-42B9-90D4-4CF822363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D26E72-D518-48E5-9F81-F0B6C0DC5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A8E3AE-D075-40B7-8082-E355669A1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7971B2-EBFD-42E4-BCE2-ABBAB3727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E564C6-BEAE-4E63-B186-7436571D8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4DCC04-C924-47BF-B38B-1129C70F3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2605-F4C3-48B5-A8C3-340D7EA95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5D045F-CE6F-4EE4-85A9-8F0E343B3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5A9D87-82FB-4591-9EBF-6D42E6DD0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CED11C-13DD-41FE-ACC6-8A49D8986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ABEE9A-E231-4AD3-88CF-0BE574656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9F48C3-2ADC-4883-B0F7-BEB65AD8D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ADD727-7B8E-4993-BEF2-6E3ACE64E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AA1489-1F0D-46FA-A79C-999EF9455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434516-1241-4600-98D2-D70B6E7A1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329727-2097-4851-AB96-394EA221D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5FF5AE-CF04-47DA-B665-43F85F39D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E463-A33F-4DF4-9BF5-EAFF0481E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03623A-A6D9-467B-89A1-B2CF67769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8DD5FE-88F2-4EDC-A46A-017AB6FB0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928AAF7-A609-4594-9C8F-76BC24E28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7AD78D-DEBF-4314-9F46-54D0F274A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749204-39EB-4AEC-A937-74F0D80AD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FD2516-7D0F-41F8-955F-1FD0DA7B0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B165F9-C1A6-40A8-8A5D-9B6D4B031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9B65AE-F02A-464D-BC2B-FE1B8C915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BF2B468-A0CE-4336-BE20-600673770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76CF95-A03E-449F-ACEB-7FBCAA8CD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C49E-98E3-43D8-8622-72BF35FA1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8BEBE1-8E0E-4FFC-8EE2-F55D32A4C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10CE3EA-90C8-4660-9986-BC5A6E8DC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88FEECF-8592-442F-A607-EE803EDEB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924E099-748F-4BED-AE71-1C32C94AD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5F35B2-75A1-4B68-B78A-0125227B6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92EAFA-C92F-4EA1-BBFB-9B539492A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D6A3B92-99FF-4E51-BCE9-6172CAF70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F973C67-281B-43C9-846F-34A675A53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66148D7-351D-48C1-8814-6068CE407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C03DB75-4D03-4944-964D-63FA8DE88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44B7-AD2F-4E2C-87B4-E4684A90F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586811F-4C30-4CD5-BE05-BB45E0D64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E152584-72CC-41CE-AC1D-1479D7BAB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4A4C95C-3956-45E8-B3D7-3E7AD0106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E81E1CB-3BCD-4AF3-908D-504E5067B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9E9E257-33F5-4D4D-BACC-D374D4CEF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970E6EC-C71A-4E8F-81B9-ED32CC01A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A335949-8D7A-4527-848C-6EB33F69B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E06ACA9-6B22-43E1-AEC5-ABDBA21CA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862EF4D-736E-4340-B921-23C36AFAA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C6EA022-376F-451F-BE03-93BC1D5E0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7A08-8D36-4607-9CAA-38DA440F0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946754A-6999-433A-889B-0C09112C4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D586328-0F38-45E7-84AA-9CBEA9C79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DEF635B-A726-429E-B0A8-F47317211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88E8F0C-CDF9-42FD-BACB-D7D79FCFB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B6B9FB4-CDBA-45F7-80CC-F60AC71A3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35B504D-183A-406E-B996-1B4E270CC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217DD11-3E26-44E5-9367-BB07577F2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FFADCEC-E5DB-4E47-87C4-2A300088A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5FE3C33-E155-4AE1-9AFD-1DE14FA36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D988EEB-7275-41FB-B7C5-7E641E131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CD7C-A29E-4648-B555-E6165DA20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0BEC176-C5AF-4E26-8757-09DAA3F5C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609D18E-EC9F-4B3C-96B8-238BE7770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73D970D-AA99-4B5E-87AB-3D4AAD109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C4F6EAE-DB75-4D74-8D54-809AEE391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4D05BF5-BA7D-4D79-923D-3A6DEEE2D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C19818E-A20D-472E-9BFE-7DFEC386F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2D2A917-85F9-4436-968F-E4E002E1D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0058F80-5161-4D55-8E3E-958BE8867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747AEA8-207A-4714-9325-4E8D10E30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6FE64FE-996E-4EB7-8D48-A1CD772ED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F3EF-D8EE-4D53-B816-51FEE40FF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A16818A-C8FE-45BE-B5EE-9D1C09B83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CF5EB88-8684-42DF-A806-EBAD67C33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2EC717B-3BFF-4EBE-BFEA-2E0823D96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4850FF1-C402-4C17-A403-72440CA9C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EA10E53-E91F-4236-8AD6-5FF0BB2EB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0F933D2-563D-4C75-A32D-AEA17F011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3310838-0965-4954-BC90-9E4EBCF43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3A5916A-DC10-4586-B9CC-CA416BC8A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BF7E4E1-38A1-476A-B4B5-8B3111AD6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23BB5DB-70AF-4E7C-BC26-5349A284E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3AA9-5D6F-473C-9585-74CC03C06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45AC635-B946-4CB8-B15F-F73B2552E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E9129E5-4F7B-4E40-9FE4-F963C15AA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1CAAE68-2702-4EC0-9EC5-CBBB02C43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ED4C6D7-AB33-48B8-8A9F-8D29DDA16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8729227-650D-4772-B3B6-5656A637E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93F7D66-D64E-4401-98F8-CD3A13D74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F7025F4-6443-4430-A62E-2A4EC3D85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860291C-DF1A-4EFA-BCBA-04494744C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7772FA1-6B7E-45E2-9702-756FAE25D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31660F1-5FC0-4257-8970-74DD05E1B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993E-2080-4AF9-AFB5-D54660578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A1CEF97-40D1-411D-8BE8-FCA53E3BC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71DE792-3793-47EC-A650-F1FCAE583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7FE516E-9B42-4B34-B842-7F27EB478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99D4E1A-4E81-406D-BE0A-673103B74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B110D36-5DE9-498F-92AA-CFBA16ABC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CF6BBF8-9EDE-46BB-B00E-43E446087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7FF5043-B489-4260-A697-868D29069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6D9589E-1F89-4A63-A591-50C32B7B3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BCD0230-FD9C-4C67-8B73-780712618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F4A530F-DF1A-4BEE-810E-F7789802B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9AA9E-7FA4-4292-82F1-D1DBED710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3E3F9D3-74C4-42EE-8E9A-0E1E6CA63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4D9A245-CB51-449C-BFB3-2E0814391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0AE5B1E-5662-4EAB-A6E8-196581976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C62F47A-718D-48F9-A54D-6AB69FA05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6C298BC-E0CB-4659-955A-98B797733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526590A-799A-4D6A-BFD3-77D6E7086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D39BF1F-4746-4A0D-901B-2E6AFA9E2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DAECE2F-5D2E-48DA-8AAD-5FAEF2BAD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8A023C3-A05B-4FDD-835B-CB02046F8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F7C5556-954F-4AF1-913E-F2320132B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D7C03-A45C-4801-BD72-EBE919658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89537E4-9583-49A1-A5FB-F0A6CAA44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8CB8DC5-F397-4ECC-80C1-B50C8BEE1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7222404-5E12-4108-8B0D-0C6495965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D80ECB0-70F2-4E47-BC2E-803842C78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31BEA0F-4D7F-4CEE-AD11-8E50DD624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EBE95F7-5635-4860-9924-9786D4137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7D3F434-915A-4455-BFB6-A138B4E13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FBB1AEE-09BE-439D-954B-DE8C2A877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BF58DD2-7521-4D3B-91C6-2419E3CF4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FF1CCA7-3D37-4FC3-ABA3-8E7A8EDB1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96BB7-FAB3-4BB5-8425-2E3115891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735E4BA-B81A-4CC7-9C9F-2729D3D7C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D9DF501-85F4-49CD-BF67-7CEEF2E04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5DBE6F3-D06B-4ADD-969F-943A3CEB4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C48EE96-5332-45DD-9D6B-5F757A27F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A0B18BB-2CD4-45F7-A9B6-8FBB7AA58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CE5E861-7DAE-4904-A029-B364C1934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CE2C149-1908-42F0-B219-F456286FE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0D819E4-078B-4A2C-AFE2-4AA7668B3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2BA8CD2-3C9C-4AB4-ABA1-161DBF075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1726651-B75C-4E78-9F06-02BD084A3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3F338-4FB8-4374-A0BB-3261695CD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AA54641-0106-4D3F-B252-E1A4D5361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09630CD-271E-4B5B-916E-E4B893643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4E95B12-D4F3-45FC-8EE6-1A46CB4D2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AD19D1C-89E9-4AE3-B635-19709DC47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C2ED625-2D93-4686-8360-E2136B83C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DFF8B59-3815-4F6E-AE63-8A6C2D5EC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63B12AE-56DD-4805-9DA0-6D3607454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8D8D57C-E2D0-42D5-A5AA-84E14977A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0E5279C-B663-454A-877E-1B7EE7E32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CE805-DB9D-4448-8CBA-89125DBCE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1D0EC-20DE-4359-A07C-DF4705957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AE142-C556-47F9-930C-DD06BEE0F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87FB2-FDC7-4C43-8991-60A0445D7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CF7CD-AACD-408C-BB9B-31D7D67FA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EF1E8-DFF5-436F-93F7-DAAEF1712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D70BB-C98F-4B56-AC6A-768ECACDC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F49ED-5A15-48E6-B40C-93AC5BE8D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33670B-BB43-4E30-9C38-7F74B89ED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7DF2B0-7FA4-41B5-A6A0-750A8CA1E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5BA903-4EB3-43D2-8C1E-045A9B54F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345247-C3A7-458E-8D09-4C64C6FA3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901A7B-74EC-4F01-B339-48635B009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24D1A8-2B22-4248-B72D-7F0955F1A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A488AD-AA3F-418F-BB5C-B940DBD7D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7FAF1D-5511-40A8-AA1B-CE5C62AA6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F3F205-4CD0-46AE-83CB-F72AC97CC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8492A6-445C-4E53-AD40-CEEFF2AB3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F06A3B-0DAD-4CE0-BBB2-6DEE55BEE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1F5ECD-8010-45EA-BD73-BFDE4B175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A9927D-D015-4E9C-BC87-0D5DC989F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D40DF6-BECE-403F-AFA8-903863FE4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AFA795-014E-4649-816A-591417A01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6DA32C-9317-417B-B49B-598908C4E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9D72FE-8973-407B-89ED-2AE60D213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33CF0D-2750-4D09-878B-B68D2D763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24877E-4793-47BD-A4AD-D45392B5B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132375-B664-4CAE-ADA1-CFEB44482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006764-C6C4-479B-A10C-F602112CE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1B2F3D-7AB2-4340-AE0E-A9A93810F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818865-5156-484D-9126-7D5E93989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1F3F60-77CF-447D-A616-0A2A7F0B6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5352E6-582C-42F2-8619-18F3B143B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1D4EF2-8F61-42AD-9A49-7138901DB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D86C8B-1D90-4B09-AF5D-1ECA9C435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62369A-DC3E-4048-8BCC-1740B88B5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D5B78E-6ED0-47F8-98FD-29B2608F5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1C88A4-0436-49D2-B4AC-4417DCDBD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8BB1E5-7CE4-4A0C-9B39-618AFACF1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BCE48C-E548-4126-8BFD-6CCEB51D6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A0FF01-755A-4779-B3F8-381648104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C702E3-EB3D-44F0-A57B-EDF85438D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535226-C972-4188-B169-A2C1BB5B7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3B0B3C-2C45-4E17-9F88-FF08487C1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F5CF44-964D-493E-83F6-FA961A545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B73E1D-D671-42F3-946A-268F57675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BFF3CF-C03B-40B9-B602-345924182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85D579-80BA-4487-9DB8-C14E926B4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E4E1EF-26D4-4E53-901D-0C40839A2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AE6E82-C85A-4107-B0DF-0E634D700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4838FC-8302-4A58-8B52-BC3AD20D3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9EB8B7-7ECD-484C-ABAD-83256E8A7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853AD7-CACE-45A9-8FE1-4075B4BDE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D01DEA-345A-44B4-9E59-793B93FED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05EEBA-D375-4B6F-B1E7-5C6B62FF7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9BFD59-B20E-4B55-B93F-C06F6A091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4FF3CC-CC9A-468F-BE6B-D1BAB5202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4A2835-0E43-40DB-85C1-8548FF512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577DE0-84CE-4F57-BFDA-FAD8EB25C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B8CB9C-1390-4AB9-B1CC-EF2AF6AF6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361DA9-AC84-40BA-8796-178F801A2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ED2932-3B92-4BE4-92D8-86AA14B2E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41E4DF-F4B3-412A-821E-60F962E57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567EF4-2A8B-4CF1-897C-DC8687603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ADC2BB-F47C-4C0F-BD2C-E620158DC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2428E2-77C2-4AAC-998A-AB8E78026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7842C9-91BC-4855-99F6-7190711E9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D4ED55-328E-48E2-8ADB-5DE6553AE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6BC8D5-319C-424D-A71B-9CF347C67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718DA5-D02A-4A0A-9A80-548920634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E256E0-ADA1-40BF-B50D-13989F0FB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1F517-49CB-49E6-8937-56F44DEE8FB0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1BEE1-188A-41CA-ADDB-354E40328EF6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FDC4F-0394-4405-80FF-86A66CE9E1D0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480" name="PlaceHolder 1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791BB-AE24-492B-9CEA-86932BC27891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1B9C5-4B41-407A-9D68-46C1560A5C10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1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8E193-2B36-415A-9E67-D65A85CCCB32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0B603-C6A3-47BA-B418-A8563E79CCA4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5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BFD95-9B61-4BF5-A979-ECF574F5EBCB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7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5CE51-2CA9-4217-9D6B-332FAC75AB51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9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34" name="PlaceHolder 5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3BDBB-CDB0-4ADF-BC2D-D36107315067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5816A-CFD4-4177-A3B6-A964B4F37FD7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图片 8" descr="数学ppt3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1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9793E-7E7A-41E4-AB11-5F97F6714804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3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 type="ftr" idx="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18" name="PlaceHolder 5"/>
          <p:cNvSpPr>
            <a:spLocks noGrp="1"/>
          </p:cNvSpPr>
          <p:nvPr>
            <p:ph type="sldNum" idx="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A591B-9569-4B6B-B841-2E339D473E4A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5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 type="ftr" idx="6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 type="sldNum" idx="6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4DBB1-BAA3-45D2-8A35-DB36F1861E0E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 type="dt" idx="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 type="ftr" idx="6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02" name="PlaceHolder 5"/>
          <p:cNvSpPr>
            <a:spLocks noGrp="1"/>
          </p:cNvSpPr>
          <p:nvPr>
            <p:ph type="sldNum" idx="6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CD444-0C76-4B93-A03F-AFB540622A7A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9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dt" idx="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 type="ftr" idx="6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 type="sldNum" idx="6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EBCF1-AFAB-4A34-AE70-47683F064204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图片 8" descr="数学ppt3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67B85-8D51-4F94-AE8B-7C30334F67E0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E3810-57FB-4FBD-AC92-B26347CBA786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53C88-794E-40EB-828B-279EDB25AEF2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D9AF9-2867-4BC3-B980-5D65A4A96D3A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06D85-8771-4E14-9CE5-37B2387C7117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280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39F85-3161-49CF-B28A-D2C23A6D494C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320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AC8BF-8BB9-4132-BAE4-E3FF433F1FE4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2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2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2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2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22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2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1" name="组合 1"/>
          <p:cNvGrpSpPr/>
          <p:nvPr/>
        </p:nvGrpSpPr>
        <p:grpSpPr>
          <a:xfrm>
            <a:off x="539640" y="4022640"/>
            <a:ext cx="2160720" cy="399960"/>
            <a:chOff x="539640" y="4022640"/>
            <a:chExt cx="2160720" cy="399960"/>
          </a:xfrm>
        </p:grpSpPr>
        <p:sp>
          <p:nvSpPr>
            <p:cNvPr id="982" name="矩形 41"/>
            <p:cNvSpPr/>
            <p:nvPr/>
          </p:nvSpPr>
          <p:spPr>
            <a:xfrm>
              <a:off x="971280" y="4051080"/>
              <a:ext cx="1584360" cy="36036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dfe9de">
                    <a:alpha val="54117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pic>
          <p:nvPicPr>
            <p:cNvPr id="983" name="Picture 5" descr="C:\Documents and Settings\pub\Desktop\未命名文件夹 4\按钮\按钮3.jpg"/>
            <p:cNvPicPr/>
            <p:nvPr/>
          </p:nvPicPr>
          <p:blipFill>
            <a:blip r:embed="rId1"/>
            <a:stretch/>
          </p:blipFill>
          <p:spPr>
            <a:xfrm>
              <a:off x="539640" y="4065480"/>
              <a:ext cx="357120" cy="35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4" name="Text Box 12"/>
            <p:cNvSpPr/>
            <p:nvPr/>
          </p:nvSpPr>
          <p:spPr>
            <a:xfrm>
              <a:off x="973080" y="4022640"/>
              <a:ext cx="172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Adobe 楷体 Std R"/>
                </a:rPr>
                <a:t>作业提升练</a:t>
              </a:r>
              <a:endParaRPr b="1" lang="en-US" sz="20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</p:grpSp>
      <p:grpSp>
        <p:nvGrpSpPr>
          <p:cNvPr id="985" name="组合 2"/>
          <p:cNvGrpSpPr/>
          <p:nvPr/>
        </p:nvGrpSpPr>
        <p:grpSpPr>
          <a:xfrm>
            <a:off x="1332000" y="4599000"/>
            <a:ext cx="2340000" cy="399960"/>
            <a:chOff x="1332000" y="4599000"/>
            <a:chExt cx="2340000" cy="399960"/>
          </a:xfrm>
        </p:grpSpPr>
        <p:sp>
          <p:nvSpPr>
            <p:cNvPr id="986" name="矩形 42"/>
            <p:cNvSpPr/>
            <p:nvPr/>
          </p:nvSpPr>
          <p:spPr>
            <a:xfrm>
              <a:off x="1763640" y="4627440"/>
              <a:ext cx="1584360" cy="36036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dfe9de">
                    <a:alpha val="54117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pic>
          <p:nvPicPr>
            <p:cNvPr id="987" name="Picture 5" descr="C:\Documents and Settings\pub\Desktop\未命名文件夹 4\按钮\按钮3.jpg"/>
            <p:cNvPicPr/>
            <p:nvPr/>
          </p:nvPicPr>
          <p:blipFill>
            <a:blip r:embed="rId2"/>
            <a:stretch/>
          </p:blipFill>
          <p:spPr>
            <a:xfrm>
              <a:off x="1332000" y="4641840"/>
              <a:ext cx="357120" cy="35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8" name="Text Box 12"/>
            <p:cNvSpPr/>
            <p:nvPr/>
          </p:nvSpPr>
          <p:spPr>
            <a:xfrm>
              <a:off x="1765080" y="4599000"/>
              <a:ext cx="1906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Adobe 楷体 Std R"/>
                </a:rPr>
                <a:t>作业拓展练</a:t>
              </a:r>
              <a:endParaRPr b="1" lang="en-US" sz="20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</p:grpSp>
      <p:sp>
        <p:nvSpPr>
          <p:cNvPr id="989" name="TextBox 20"/>
          <p:cNvSpPr/>
          <p:nvPr/>
        </p:nvSpPr>
        <p:spPr>
          <a:xfrm>
            <a:off x="6310080" y="1214280"/>
            <a:ext cx="173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QD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六年级下册</a:t>
            </a:r>
            <a:endParaRPr b="1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90" name="TextBox 22"/>
          <p:cNvSpPr/>
          <p:nvPr/>
        </p:nvSpPr>
        <p:spPr>
          <a:xfrm>
            <a:off x="3656880" y="37116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4f81bd"/>
                </a:solidFill>
                <a:latin typeface="Calibri"/>
                <a:ea typeface="宋体"/>
              </a:rPr>
              <a:t>作业习题</a:t>
            </a:r>
            <a:endParaRPr b="1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91" name="标题 1"/>
          <p:cNvSpPr/>
          <p:nvPr/>
        </p:nvSpPr>
        <p:spPr>
          <a:xfrm>
            <a:off x="687240" y="181440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5000" spc="-1" strike="noStrike">
                <a:solidFill>
                  <a:srgbClr val="000000"/>
                </a:solidFill>
                <a:latin typeface="黑体"/>
                <a:ea typeface="黑体"/>
              </a:rPr>
              <a:t>圆柱的表面积</a:t>
            </a:r>
            <a:endParaRPr b="1" lang="en-US" sz="5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92" name="TextBox 4"/>
          <p:cNvSpPr/>
          <p:nvPr/>
        </p:nvSpPr>
        <p:spPr>
          <a:xfrm>
            <a:off x="4067280" y="1574640"/>
            <a:ext cx="4651200" cy="4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楷体"/>
                <a:ea typeface="楷体"/>
              </a:rPr>
              <a:t>2  </a:t>
            </a:r>
            <a:r>
              <a:rPr b="1" lang="zh-CN" sz="2200" spc="-1" strike="noStrike">
                <a:solidFill>
                  <a:srgbClr val="ff0000"/>
                </a:solidFill>
                <a:latin typeface="楷体"/>
                <a:ea typeface="楷体"/>
              </a:rPr>
              <a:t>冰淇淋盒有多大</a:t>
            </a:r>
            <a:r>
              <a:rPr b="1" lang="en-US" sz="2200" spc="-1" strike="noStrike">
                <a:solidFill>
                  <a:srgbClr val="ff0000"/>
                </a:solidFill>
                <a:latin typeface="楷体"/>
                <a:ea typeface="楷体"/>
              </a:rPr>
              <a:t>——</a:t>
            </a:r>
            <a:r>
              <a:rPr b="1" lang="zh-CN" sz="2200" spc="-1" strike="noStrike">
                <a:solidFill>
                  <a:srgbClr val="ff0000"/>
                </a:solidFill>
                <a:latin typeface="楷体"/>
                <a:ea typeface="楷体"/>
              </a:rPr>
              <a:t>圆柱和圆锥</a:t>
            </a:r>
            <a:endParaRPr b="1" lang="en-US" sz="2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矩形 10"/>
          <p:cNvSpPr/>
          <p:nvPr/>
        </p:nvSpPr>
        <p:spPr>
          <a:xfrm>
            <a:off x="961920" y="1122480"/>
            <a:ext cx="721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8560" indent="-6285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十、一段圆柱形木料，如果截成两个小圆柱，它的表面积增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6.28 c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如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1)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；如果沿着直径劈成两半，它的表面积增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80 c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如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2)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求原来木料的表面积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29" name="矩形 4"/>
          <p:cNvSpPr/>
          <p:nvPr/>
        </p:nvSpPr>
        <p:spPr>
          <a:xfrm>
            <a:off x="1555920" y="4041720"/>
            <a:ext cx="6487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6.28÷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3.14(cm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  <a:ea typeface="楷体_GB2312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　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3.14÷3.14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(cm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  <a:ea typeface="楷体_GB2312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易知底面半径为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 cm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　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80÷2÷(1×2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20(cm)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3.14×1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  <a:ea typeface="楷体_GB2312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×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3.14×1×2×2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31.88(cm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  <a:ea typeface="楷体_GB2312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答：原来木料的表面积是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31.88cm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030" name="Picture 2" descr="XJ7"/>
          <p:cNvPicPr/>
          <p:nvPr/>
        </p:nvPicPr>
        <p:blipFill>
          <a:blip r:embed="rId1"/>
          <a:stretch/>
        </p:blipFill>
        <p:spPr>
          <a:xfrm>
            <a:off x="5688000" y="2816280"/>
            <a:ext cx="2119320" cy="1413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1" name="组合 14"/>
          <p:cNvGrpSpPr/>
          <p:nvPr/>
        </p:nvGrpSpPr>
        <p:grpSpPr>
          <a:xfrm>
            <a:off x="476280" y="441360"/>
            <a:ext cx="2852640" cy="668160"/>
            <a:chOff x="476280" y="441360"/>
            <a:chExt cx="2852640" cy="668160"/>
          </a:xfrm>
        </p:grpSpPr>
        <p:sp>
          <p:nvSpPr>
            <p:cNvPr id="1032" name="圆角矩形 15"/>
            <p:cNvSpPr/>
            <p:nvPr/>
          </p:nvSpPr>
          <p:spPr>
            <a:xfrm>
              <a:off x="1396800" y="660240"/>
              <a:ext cx="19256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a6a6a6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grpSp>
          <p:nvGrpSpPr>
            <p:cNvPr id="1033" name="组合 16"/>
            <p:cNvGrpSpPr/>
            <p:nvPr/>
          </p:nvGrpSpPr>
          <p:grpSpPr>
            <a:xfrm>
              <a:off x="476280" y="441360"/>
              <a:ext cx="2852640" cy="668160"/>
              <a:chOff x="476280" y="441360"/>
              <a:chExt cx="2852640" cy="668160"/>
            </a:xfrm>
          </p:grpSpPr>
          <p:sp>
            <p:nvSpPr>
              <p:cNvPr id="1034" name="文本框 13"/>
              <p:cNvSpPr/>
              <p:nvPr/>
            </p:nvSpPr>
            <p:spPr>
              <a:xfrm>
                <a:off x="1403640" y="647640"/>
                <a:ext cx="192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作业拓展练</a:t>
                </a:r>
                <a:endParaRPr b="1" lang="en-US" sz="2400" spc="-1" strike="noStrike">
                  <a:solidFill>
                    <a:srgbClr val="000000"/>
                  </a:solidFill>
                  <a:latin typeface="微软雅黑"/>
                </a:endParaRPr>
              </a:p>
            </p:txBody>
          </p:sp>
          <p:pic>
            <p:nvPicPr>
              <p:cNvPr id="1035" name="图片 9" descr=""/>
              <p:cNvPicPr/>
              <p:nvPr/>
            </p:nvPicPr>
            <p:blipFill>
              <a:blip r:embed="rId1"/>
              <a:stretch/>
            </p:blipFill>
            <p:spPr>
              <a:xfrm>
                <a:off x="476280" y="441360"/>
                <a:ext cx="1083960" cy="668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36" name="矩形 19"/>
          <p:cNvSpPr/>
          <p:nvPr/>
        </p:nvSpPr>
        <p:spPr>
          <a:xfrm>
            <a:off x="963720" y="1233360"/>
            <a:ext cx="721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85680" indent="-985680">
              <a:lnSpc>
                <a:spcPct val="150000"/>
              </a:lnSpc>
              <a:tabLst>
                <a:tab algn="l" pos="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十一、一根圆柱形水泥管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米，水泥管的内半径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厘米，外半径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分米，水泥管的表面积是多少平方米？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37" name="矩形 4"/>
          <p:cNvSpPr/>
          <p:nvPr/>
        </p:nvSpPr>
        <p:spPr>
          <a:xfrm>
            <a:off x="1677960" y="3429000"/>
            <a:ext cx="6508800" cy="24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厘米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0.05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米　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分米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0.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米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3.14×0.2×2×5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3.14×0.05×2×5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3.14×(0.2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0.05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  <a:ea typeface="楷体_GB2312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)×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78.7355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平方米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答：水泥管的表面积是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78.7355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平方米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Rectangle 2"/>
          <p:cNvSpPr/>
          <p:nvPr/>
        </p:nvSpPr>
        <p:spPr>
          <a:xfrm>
            <a:off x="1182600" y="1916280"/>
            <a:ext cx="7169400" cy="34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08200" indent="-80820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圆柱底面半径或高的变化引起侧面积、表面积的变化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808200" indent="-80820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根据具体事物的特征灵活计算面积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808200" indent="-80820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计算半圆柱的表面积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808200" indent="-80820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拼接后圆柱表面积的变化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808200" indent="-80820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利用“数形结合”思想计算圆柱的表面积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grpSp>
        <p:nvGrpSpPr>
          <p:cNvPr id="994" name="组 45"/>
          <p:cNvGrpSpPr/>
          <p:nvPr/>
        </p:nvGrpSpPr>
        <p:grpSpPr>
          <a:xfrm>
            <a:off x="776160" y="334800"/>
            <a:ext cx="3119400" cy="796320"/>
            <a:chOff x="776160" y="334800"/>
            <a:chExt cx="3119400" cy="796320"/>
          </a:xfrm>
        </p:grpSpPr>
        <p:sp>
          <p:nvSpPr>
            <p:cNvPr id="995" name="AutoShape 2"/>
            <p:cNvSpPr/>
            <p:nvPr/>
          </p:nvSpPr>
          <p:spPr>
            <a:xfrm>
              <a:off x="1414080" y="695160"/>
              <a:ext cx="2189160" cy="409680"/>
            </a:xfrm>
            <a:prstGeom prst="roundRect">
              <a:avLst>
                <a:gd name="adj" fmla="val 47681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sp>
          <p:nvSpPr>
            <p:cNvPr id="996" name="AutoShape 11"/>
            <p:cNvSpPr/>
            <p:nvPr/>
          </p:nvSpPr>
          <p:spPr>
            <a:xfrm>
              <a:off x="776160" y="334800"/>
              <a:ext cx="844560" cy="721080"/>
            </a:xfrm>
            <a:prstGeom prst="diamond">
              <a:avLst/>
            </a:prstGeom>
            <a:solidFill>
              <a:srgbClr val="ff6600"/>
            </a:solidFill>
            <a:ln w="381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sp>
          <p:nvSpPr>
            <p:cNvPr id="997" name="文本框 48"/>
            <p:cNvSpPr/>
            <p:nvPr/>
          </p:nvSpPr>
          <p:spPr>
            <a:xfrm>
              <a:off x="1463400" y="671400"/>
              <a:ext cx="243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Adobe 黑体 Std R"/>
                  <a:ea typeface="Adobe 黑体 Std R"/>
                </a:rPr>
                <a:t>作业提升方向</a:t>
              </a:r>
              <a:endParaRPr b="1" lang="en-US" sz="24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矩形 10"/>
          <p:cNvSpPr/>
          <p:nvPr/>
        </p:nvSpPr>
        <p:spPr>
          <a:xfrm>
            <a:off x="984240" y="1341360"/>
            <a:ext cx="7151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8560" indent="-6285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四、判断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628560" indent="-6285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一个圆柱的底面半径扩大到原来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倍，高不变，圆柱的侧面积扩大到原来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倍。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628560" indent="-6285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圆柱的底面直径不变，如果高扩大到原来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倍，那么表面积也扩大到原来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倍。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grpSp>
        <p:nvGrpSpPr>
          <p:cNvPr id="999" name="组合 11"/>
          <p:cNvGrpSpPr/>
          <p:nvPr/>
        </p:nvGrpSpPr>
        <p:grpSpPr>
          <a:xfrm>
            <a:off x="476280" y="441360"/>
            <a:ext cx="2852640" cy="668160"/>
            <a:chOff x="476280" y="441360"/>
            <a:chExt cx="2852640" cy="668160"/>
          </a:xfrm>
        </p:grpSpPr>
        <p:sp>
          <p:nvSpPr>
            <p:cNvPr id="1000" name="圆角矩形 19"/>
            <p:cNvSpPr/>
            <p:nvPr/>
          </p:nvSpPr>
          <p:spPr>
            <a:xfrm>
              <a:off x="1396800" y="660240"/>
              <a:ext cx="19256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a6a6a6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grpSp>
          <p:nvGrpSpPr>
            <p:cNvPr id="1001" name="组合 6"/>
            <p:cNvGrpSpPr/>
            <p:nvPr/>
          </p:nvGrpSpPr>
          <p:grpSpPr>
            <a:xfrm>
              <a:off x="476280" y="441360"/>
              <a:ext cx="2852640" cy="668160"/>
              <a:chOff x="476280" y="441360"/>
              <a:chExt cx="2852640" cy="668160"/>
            </a:xfrm>
          </p:grpSpPr>
          <p:sp>
            <p:nvSpPr>
              <p:cNvPr id="1002" name="文本框 13"/>
              <p:cNvSpPr/>
              <p:nvPr/>
            </p:nvSpPr>
            <p:spPr>
              <a:xfrm>
                <a:off x="1403640" y="647640"/>
                <a:ext cx="192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作业提升练</a:t>
                </a:r>
                <a:endParaRPr b="1" lang="en-US" sz="2400" spc="-1" strike="noStrike">
                  <a:solidFill>
                    <a:srgbClr val="000000"/>
                  </a:solidFill>
                  <a:latin typeface="微软雅黑"/>
                </a:endParaRPr>
              </a:p>
            </p:txBody>
          </p:sp>
          <p:pic>
            <p:nvPicPr>
              <p:cNvPr id="1003" name="图片 9" descr=""/>
              <p:cNvPicPr/>
              <p:nvPr/>
            </p:nvPicPr>
            <p:blipFill>
              <a:blip r:embed="rId1"/>
              <a:stretch/>
            </p:blipFill>
            <p:spPr>
              <a:xfrm>
                <a:off x="476280" y="441360"/>
                <a:ext cx="1083960" cy="668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04" name="TextBox 12"/>
          <p:cNvSpPr/>
          <p:nvPr/>
        </p:nvSpPr>
        <p:spPr>
          <a:xfrm>
            <a:off x="7413120" y="25416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×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05" name="TextBox 13"/>
          <p:cNvSpPr/>
          <p:nvPr/>
        </p:nvSpPr>
        <p:spPr>
          <a:xfrm>
            <a:off x="7476840" y="37418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×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0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TextBox 1"/>
          <p:cNvSpPr/>
          <p:nvPr/>
        </p:nvSpPr>
        <p:spPr>
          <a:xfrm>
            <a:off x="880920" y="1260360"/>
            <a:ext cx="7255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8560" indent="-6285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五、求铁皮的面积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628560" indent="-6285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一个圆柱形汽油桶，底面周长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8.8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分米，高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米。做这个汽油桶至少用铁皮多少平方米？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628560" indent="-6285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628560" indent="-6285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628560" indent="-6285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628560" indent="-6285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07" name="TextBox 1"/>
          <p:cNvSpPr/>
          <p:nvPr/>
        </p:nvSpPr>
        <p:spPr>
          <a:xfrm>
            <a:off x="1258920" y="3429000"/>
            <a:ext cx="6626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18.84÷3.14÷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3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分米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18.84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分米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1.884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米　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分米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0.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米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1.884×1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0.3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  <a:ea typeface="宋体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×3.14×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2.4492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平方米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答：做这个汽油桶至少用铁皮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2.449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平方米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矩形 10"/>
          <p:cNvSpPr/>
          <p:nvPr/>
        </p:nvSpPr>
        <p:spPr>
          <a:xfrm>
            <a:off x="961920" y="114624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一个圆柱形水桶，底面半径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厘米，高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分米，做这个水桶至少用铁皮多少平方分米？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534960" indent="-5349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534960" indent="-5349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534960" indent="-5349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534960" indent="-5349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一节通风管底面直径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厘米，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米，做这节通风管至少用铁皮多少平方米？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534960" indent="-5349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09" name="TextBox 5"/>
          <p:cNvSpPr/>
          <p:nvPr/>
        </p:nvSpPr>
        <p:spPr>
          <a:xfrm>
            <a:off x="1511280" y="2133720"/>
            <a:ext cx="685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15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厘米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1.5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分米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1.5×2×3.14×4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1.5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  <a:ea typeface="宋体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×3.14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44.745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平方分米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答：做这个水桶至少用铁皮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44.745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平方分米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10" name="TextBox 6"/>
          <p:cNvSpPr/>
          <p:nvPr/>
        </p:nvSpPr>
        <p:spPr>
          <a:xfrm>
            <a:off x="1630440" y="5103720"/>
            <a:ext cx="66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2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厘米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0.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米　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0.2×3.14×1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0.628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平方米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答：做这节通风管至少用铁皮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0.628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平方米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矩形 1"/>
          <p:cNvSpPr/>
          <p:nvPr/>
        </p:nvSpPr>
        <p:spPr>
          <a:xfrm>
            <a:off x="819000" y="1160640"/>
            <a:ext cx="4932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3240" indent="-63648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六、有一个半圆柱如下图所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单位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cm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已知它的底面直径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2 c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高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0 c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求它的表面积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012" name="Picture 4" descr="XJ4"/>
          <p:cNvPicPr/>
          <p:nvPr/>
        </p:nvPicPr>
        <p:blipFill>
          <a:blip r:embed="rId1"/>
          <a:stretch/>
        </p:blipFill>
        <p:spPr>
          <a:xfrm>
            <a:off x="5762520" y="1573200"/>
            <a:ext cx="2016360" cy="1484280"/>
          </a:xfrm>
          <a:prstGeom prst="rect">
            <a:avLst/>
          </a:prstGeom>
          <a:ln w="0">
            <a:noFill/>
          </a:ln>
        </p:spPr>
      </p:pic>
      <p:grpSp>
        <p:nvGrpSpPr>
          <p:cNvPr id="1013" name="组合 8"/>
          <p:cNvGrpSpPr/>
          <p:nvPr/>
        </p:nvGrpSpPr>
        <p:grpSpPr>
          <a:xfrm>
            <a:off x="1643040" y="3357720"/>
            <a:ext cx="6480360" cy="3020040"/>
            <a:chOff x="1643040" y="3357720"/>
            <a:chExt cx="6480360" cy="3020040"/>
          </a:xfrm>
        </p:grpSpPr>
        <p:sp>
          <p:nvSpPr>
            <p:cNvPr id="1014" name="矩形 2"/>
            <p:cNvSpPr/>
            <p:nvPr/>
          </p:nvSpPr>
          <p:spPr>
            <a:xfrm>
              <a:off x="1643040" y="3357720"/>
              <a:ext cx="6480360" cy="30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3.14×       ×2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＋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3.14×12×20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＝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979.68(cm</a:t>
              </a:r>
              <a:r>
                <a:rPr b="1" lang="en-US" sz="2400" spc="-1" strike="noStrike" baseline="30000">
                  <a:solidFill>
                    <a:srgbClr val="ff0000"/>
                  </a:solidFill>
                  <a:latin typeface="Times New Roman"/>
                  <a:ea typeface="楷体_GB2312"/>
                </a:rPr>
                <a:t>2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)</a:t>
              </a:r>
              <a:endParaRPr b="1" lang="en-US" sz="2400" spc="-1" strike="noStrike">
                <a:solidFill>
                  <a:srgbClr val="000000"/>
                </a:solidFill>
                <a:latin typeface="微软雅黑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979.68×     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＝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489.84(cm</a:t>
              </a:r>
              <a:r>
                <a:rPr b="1" lang="en-US" sz="2400" spc="-1" strike="noStrike" baseline="30000">
                  <a:solidFill>
                    <a:srgbClr val="ff0000"/>
                  </a:solidFill>
                  <a:latin typeface="Times New Roman"/>
                  <a:ea typeface="楷体_GB2312"/>
                </a:rPr>
                <a:t>2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)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　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20×12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＝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240(cm</a:t>
              </a:r>
              <a:r>
                <a:rPr b="1" lang="en-US" sz="2400" spc="-1" strike="noStrike" baseline="30000">
                  <a:solidFill>
                    <a:srgbClr val="ff0000"/>
                  </a:solidFill>
                  <a:latin typeface="Times New Roman"/>
                  <a:ea typeface="楷体_GB2312"/>
                </a:rPr>
                <a:t>2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)</a:t>
              </a:r>
              <a:endParaRPr b="1" lang="en-US" sz="2400" spc="-1" strike="noStrike">
                <a:solidFill>
                  <a:srgbClr val="000000"/>
                </a:solidFill>
                <a:latin typeface="微软雅黑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              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489.84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＋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240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＝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729.84(cm</a:t>
              </a:r>
              <a:r>
                <a:rPr b="1" lang="en-US" sz="2400" spc="-1" strike="noStrike" baseline="30000">
                  <a:solidFill>
                    <a:srgbClr val="ff0000"/>
                  </a:solidFill>
                  <a:latin typeface="Times New Roman"/>
                  <a:ea typeface="楷体_GB2312"/>
                </a:rPr>
                <a:t>2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)</a:t>
              </a:r>
              <a:endParaRPr b="1" lang="en-US" sz="2400" spc="-1" strike="noStrike">
                <a:solidFill>
                  <a:srgbClr val="000000"/>
                </a:solidFill>
                <a:latin typeface="微软雅黑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              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答：它的表面积是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729.84cm</a:t>
              </a:r>
              <a:r>
                <a:rPr b="1" lang="en-US" sz="2400" spc="-1" strike="noStrike" baseline="30000">
                  <a:solidFill>
                    <a:srgbClr val="ff0000"/>
                  </a:solidFill>
                  <a:latin typeface="Times New Roman"/>
                  <a:ea typeface="楷体_GB2312"/>
                </a:rPr>
                <a:t>2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。</a:t>
              </a:r>
              <a:endParaRPr b="1" lang="en-US" sz="24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pic>
          <p:nvPicPr>
            <p:cNvPr id="1015" name="对象 5" descr=""/>
            <p:cNvPicPr/>
            <p:nvPr/>
          </p:nvPicPr>
          <p:blipFill>
            <a:blip r:embed="rId2"/>
            <a:stretch/>
          </p:blipFill>
          <p:spPr>
            <a:xfrm>
              <a:off x="2538360" y="3441600"/>
              <a:ext cx="68004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6" name="对象 7" descr=""/>
            <p:cNvPicPr/>
            <p:nvPr/>
          </p:nvPicPr>
          <p:blipFill>
            <a:blip r:embed="rId3"/>
            <a:stretch/>
          </p:blipFill>
          <p:spPr>
            <a:xfrm>
              <a:off x="2879280" y="4160880"/>
              <a:ext cx="270000" cy="7200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矩形 1"/>
          <p:cNvSpPr/>
          <p:nvPr/>
        </p:nvSpPr>
        <p:spPr>
          <a:xfrm>
            <a:off x="1619280" y="3681360"/>
            <a:ext cx="653724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3.14×2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  <a:ea typeface="楷体_GB2312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×6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75.36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平方厘米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答：表面积一共减少了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75.36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平方厘米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18" name="矩形 2"/>
          <p:cNvSpPr/>
          <p:nvPr/>
        </p:nvSpPr>
        <p:spPr>
          <a:xfrm>
            <a:off x="928800" y="1279440"/>
            <a:ext cx="72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8560" indent="-62856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七、把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根底面半径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厘米的圆柱形铁棒焊接成一根铁棒，表面积一共减少了多少平方厘米？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019" name="Picture 5" descr="XJ8"/>
          <p:cNvPicPr/>
          <p:nvPr/>
        </p:nvPicPr>
        <p:blipFill>
          <a:blip r:embed="rId1"/>
          <a:stretch/>
        </p:blipFill>
        <p:spPr>
          <a:xfrm>
            <a:off x="1619280" y="3006720"/>
            <a:ext cx="6302520" cy="25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矩形 10"/>
          <p:cNvSpPr/>
          <p:nvPr/>
        </p:nvSpPr>
        <p:spPr>
          <a:xfrm>
            <a:off x="955800" y="1233360"/>
            <a:ext cx="721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8560" indent="-6285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八、木工师傅把一根高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 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圆柱形木料沿着底面直径平均分成两部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如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这时表面积增加了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0.8 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你能计算出原来木料的表面积吗？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得数保留一位小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021" name="Picture 5" descr="XJ5"/>
          <p:cNvPicPr/>
          <p:nvPr/>
        </p:nvPicPr>
        <p:blipFill>
          <a:blip r:embed="rId1"/>
          <a:stretch/>
        </p:blipFill>
        <p:spPr>
          <a:xfrm>
            <a:off x="5651640" y="2938320"/>
            <a:ext cx="2298600" cy="1592280"/>
          </a:xfrm>
          <a:prstGeom prst="rect">
            <a:avLst/>
          </a:prstGeom>
          <a:ln w="0">
            <a:noFill/>
          </a:ln>
        </p:spPr>
      </p:pic>
      <p:grpSp>
        <p:nvGrpSpPr>
          <p:cNvPr id="1022" name="组合 2"/>
          <p:cNvGrpSpPr/>
          <p:nvPr/>
        </p:nvGrpSpPr>
        <p:grpSpPr>
          <a:xfrm>
            <a:off x="1333440" y="4149720"/>
            <a:ext cx="6477120" cy="2288520"/>
            <a:chOff x="1333440" y="4149720"/>
            <a:chExt cx="6477120" cy="2288520"/>
          </a:xfrm>
        </p:grpSpPr>
        <p:sp>
          <p:nvSpPr>
            <p:cNvPr id="1023" name="矩形 4"/>
            <p:cNvSpPr/>
            <p:nvPr/>
          </p:nvSpPr>
          <p:spPr>
            <a:xfrm>
              <a:off x="1333440" y="4149720"/>
              <a:ext cx="647712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0.8÷2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＝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0.4(m</a:t>
              </a:r>
              <a:r>
                <a:rPr b="1" lang="en-US" sz="2400" spc="-1" strike="noStrike" baseline="30000">
                  <a:solidFill>
                    <a:srgbClr val="ff0000"/>
                  </a:solidFill>
                  <a:latin typeface="Times New Roman"/>
                  <a:ea typeface="楷体_GB2312"/>
                </a:rPr>
                <a:t>2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)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　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0.4÷1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＝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0.4(m)</a:t>
              </a:r>
              <a:endParaRPr b="1" lang="en-US" sz="2400" spc="-1" strike="noStrike">
                <a:solidFill>
                  <a:srgbClr val="000000"/>
                </a:solidFill>
                <a:latin typeface="微软雅黑"/>
              </a:endParaRPr>
            </a:p>
            <a:p>
              <a:pPr algn="ctr"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3.14×          ×2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＋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3.14×0.4×1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＝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1.5072≈1.5(m</a:t>
              </a:r>
              <a:r>
                <a:rPr b="1" lang="en-US" sz="2400" spc="-1" strike="noStrike" baseline="30000">
                  <a:solidFill>
                    <a:srgbClr val="ff0000"/>
                  </a:solidFill>
                  <a:latin typeface="Times New Roman"/>
                  <a:ea typeface="楷体_GB2312"/>
                </a:rPr>
                <a:t>2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)</a:t>
              </a:r>
              <a:endParaRPr b="1" lang="en-US" sz="2400" spc="-1" strike="noStrike">
                <a:solidFill>
                  <a:srgbClr val="000000"/>
                </a:solidFill>
                <a:latin typeface="微软雅黑"/>
              </a:endParaRPr>
            </a:p>
            <a:p>
              <a:pPr algn="ctr"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答：原来木料的表面积约是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1.5 m</a:t>
              </a:r>
              <a:r>
                <a:rPr b="1" lang="en-US" sz="2400" spc="-1" strike="noStrike" baseline="30000">
                  <a:solidFill>
                    <a:srgbClr val="ff0000"/>
                  </a:solidFill>
                  <a:latin typeface="Times New Roman"/>
                  <a:ea typeface="楷体_GB2312"/>
                </a:rPr>
                <a:t>2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。</a:t>
              </a:r>
              <a:endParaRPr b="1" lang="en-US" sz="24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pic>
          <p:nvPicPr>
            <p:cNvPr id="1024" name="对象 1" descr=""/>
            <p:cNvPicPr/>
            <p:nvPr/>
          </p:nvPicPr>
          <p:blipFill>
            <a:blip r:embed="rId2"/>
            <a:stretch/>
          </p:blipFill>
          <p:spPr>
            <a:xfrm>
              <a:off x="2233440" y="4988160"/>
              <a:ext cx="757800" cy="7200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矩形 10"/>
          <p:cNvSpPr/>
          <p:nvPr/>
        </p:nvSpPr>
        <p:spPr>
          <a:xfrm>
            <a:off x="950760" y="1233360"/>
            <a:ext cx="721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8560" indent="-6285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九、一个圆柱被截去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0 c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后，圆柱的表面积减少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62.8 c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如下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原来圆柱的表面积是多少平方厘米？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26" name="矩形 4"/>
          <p:cNvSpPr/>
          <p:nvPr/>
        </p:nvSpPr>
        <p:spPr>
          <a:xfrm>
            <a:off x="1430280" y="4508640"/>
            <a:ext cx="6283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62.8÷1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6.28(cm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　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6.28÷3.14÷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(cm)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3.14×1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  <a:ea typeface="楷体_GB2312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×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6.28×(1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5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63.28(cm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  <a:ea typeface="楷体_GB2312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答：原来圆柱的表面积是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63.28cm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027" name="Picture 2" descr="XJ6"/>
          <p:cNvPicPr/>
          <p:nvPr/>
        </p:nvPicPr>
        <p:blipFill>
          <a:blip r:embed="rId1"/>
          <a:stretch/>
        </p:blipFill>
        <p:spPr>
          <a:xfrm>
            <a:off x="5659560" y="2529000"/>
            <a:ext cx="2050920" cy="1855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08T08:32:11Z</dcterms:created>
  <dc:creator/>
  <dc:description/>
  <dc:language>en-US</dc:language>
  <cp:lastModifiedBy>相忘于江湖</cp:lastModifiedBy>
  <dcterms:modified xsi:type="dcterms:W3CDTF">2018-01-07T08:28:08Z</dcterms:modified>
  <cp:revision>17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106</vt:lpwstr>
  </property>
</Properties>
</file>